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441080" y="921960"/>
            <a:ext cx="4411800" cy="33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31480" y="4566960"/>
            <a:ext cx="503892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19320" y="719280"/>
            <a:ext cx="4876560" cy="3601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719280"/>
            <a:ext cx="4876560" cy="3601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719280"/>
            <a:ext cx="4876560" cy="3601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282-C8AE-482A-8D9A-A1D6F638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360" y="44258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243-CC71-4898-B7D0-14450BCC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4440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612-0B92-4221-9B8F-412677A4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661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79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43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661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6279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CFC-78E1-4C60-BF3D-740CE35B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13A9-574D-4404-A3F6-1CC5A7BC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304F-A995-4E12-A905-1DD13C3A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A749-4683-4E18-9425-642A5F16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8148-94E7-4CC9-BB09-2A95D334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D5B3-0906-4FCD-B5D8-786577A3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4720" y="135000"/>
            <a:ext cx="829800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DDDE-1BB9-4C3B-BA85-1FC94035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F656-A322-49A0-8208-58A70068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9BF-C9F3-4B0E-A8E0-80650B7B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14440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8A3E-EC6A-48AE-96DD-79B9068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B1F2-19C7-42BF-993A-F2B53728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4360" y="44258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3121-D33C-4B5D-BB6B-1FBE73DC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14440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74E0-F719-409D-995A-D59E5877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661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79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43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661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6279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B54C-6ED2-4147-B6B0-54F56598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115-19A1-4254-BD50-749F524C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A48-A561-4779-9293-5A7230C6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FC7-7CC6-4CE6-80A4-098B938C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4720" y="135000"/>
            <a:ext cx="829800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8B0-1E32-4C05-97A4-6CE39AA2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83C-66F3-41AF-9F25-5520714D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4440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D7B-19E8-428E-800A-1E0BC08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514-5883-4B45-B744-50EFF14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78960" y="168120"/>
            <a:ext cx="1440" cy="1679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4360" y="6887880"/>
            <a:ext cx="233388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4480" y="6887880"/>
            <a:ext cx="317340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4840" y="6887880"/>
            <a:ext cx="233496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5A598-DCE9-4DBA-A2BD-74DC57117C6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988480" y="168120"/>
            <a:ext cx="855720" cy="1409760"/>
            <a:chOff x="8988480" y="168120"/>
            <a:chExt cx="855720" cy="1409760"/>
          </a:xfrm>
        </p:grpSpPr>
        <p:sp>
          <p:nvSpPr>
            <p:cNvPr id="7" name=""/>
            <p:cNvSpPr/>
            <p:nvPr/>
          </p:nvSpPr>
          <p:spPr>
            <a:xfrm>
              <a:off x="8988480" y="168120"/>
              <a:ext cx="114120" cy="1144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174240" y="168120"/>
              <a:ext cx="114120" cy="1144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58200" y="168120"/>
              <a:ext cx="114480" cy="1144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88480" y="35244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74240" y="35244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358200" y="352440"/>
              <a:ext cx="11448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543960" y="352440"/>
              <a:ext cx="11448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88480" y="53820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74240" y="53820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58200" y="538200"/>
              <a:ext cx="11448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543960" y="538200"/>
              <a:ext cx="11448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29720" y="538200"/>
              <a:ext cx="11448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88480" y="72396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74240" y="723960"/>
              <a:ext cx="11412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58200" y="723960"/>
              <a:ext cx="11448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543960" y="723960"/>
              <a:ext cx="11448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988480" y="907920"/>
              <a:ext cx="114120" cy="1144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74240" y="907920"/>
              <a:ext cx="114120" cy="1144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58200" y="907920"/>
              <a:ext cx="114480" cy="1144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543960" y="907920"/>
              <a:ext cx="114480" cy="1144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729720" y="907920"/>
              <a:ext cx="114480" cy="114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88480" y="1093680"/>
              <a:ext cx="114120" cy="1144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4240" y="1093680"/>
              <a:ext cx="114120" cy="1144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358200" y="1093680"/>
              <a:ext cx="114480" cy="1144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43960" y="1093680"/>
              <a:ext cx="114480" cy="114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988480" y="1278000"/>
              <a:ext cx="11412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74240" y="1278000"/>
              <a:ext cx="11412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358200" y="1278000"/>
              <a:ext cx="11448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543960" y="1278000"/>
              <a:ext cx="11448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74240" y="1463760"/>
              <a:ext cx="11412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9543960" y="1463760"/>
              <a:ext cx="11448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064360" y="1176480"/>
            <a:ext cx="1800" cy="4956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7400" y="514440"/>
            <a:ext cx="7459560" cy="233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3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5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3388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444480" y="6887880"/>
            <a:ext cx="317340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7224840" y="6887880"/>
            <a:ext cx="233496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DDDBF-520F-4779-A321-ABFAA6FD828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259840" y="3298680"/>
            <a:ext cx="1458720" cy="2395800"/>
            <a:chOff x="8259840" y="3298680"/>
            <a:chExt cx="1458720" cy="2395800"/>
          </a:xfrm>
        </p:grpSpPr>
        <p:sp>
          <p:nvSpPr>
            <p:cNvPr id="80" name=""/>
            <p:cNvSpPr/>
            <p:nvPr/>
          </p:nvSpPr>
          <p:spPr>
            <a:xfrm>
              <a:off x="8259840" y="329868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74120" y="329868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886960" y="3298680"/>
              <a:ext cx="20448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59840" y="361152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74120" y="361152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886960" y="3611520"/>
              <a:ext cx="20448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99440" y="3611520"/>
              <a:ext cx="204840" cy="204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59840" y="392436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74120" y="392436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886960" y="3924360"/>
              <a:ext cx="204480" cy="204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99440" y="3924360"/>
              <a:ext cx="204840" cy="204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513720" y="3924360"/>
              <a:ext cx="20484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59840" y="4237200"/>
              <a:ext cx="204840" cy="2062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574120" y="4237200"/>
              <a:ext cx="204840" cy="206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886960" y="4237200"/>
              <a:ext cx="204480" cy="206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99440" y="4237200"/>
              <a:ext cx="204840" cy="206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59840" y="4549680"/>
              <a:ext cx="204840" cy="20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74120" y="4549680"/>
              <a:ext cx="204840" cy="20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86960" y="4549680"/>
              <a:ext cx="204480" cy="20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99440" y="4549680"/>
              <a:ext cx="204840" cy="20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513720" y="4549680"/>
              <a:ext cx="204840" cy="20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59840" y="4862520"/>
              <a:ext cx="204840" cy="204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74120" y="4862520"/>
              <a:ext cx="20484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86960" y="4862520"/>
              <a:ext cx="20448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99440" y="4862520"/>
              <a:ext cx="20484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59840" y="5176800"/>
              <a:ext cx="20484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4120" y="5176800"/>
              <a:ext cx="20484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86960" y="5176800"/>
              <a:ext cx="20448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99440" y="5176800"/>
              <a:ext cx="20484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74120" y="5489640"/>
              <a:ext cx="20484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99440" y="5489640"/>
              <a:ext cx="20484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6600" y="3108240"/>
            <a:ext cx="90723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9360" y="2451240"/>
            <a:ext cx="92361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Recherche locale avec Tab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36720" y="3132000"/>
            <a:ext cx="741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niel Porum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P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0360" y="6443640"/>
            <a:ext cx="313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62560" y="6443640"/>
            <a:ext cx="3962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F0C-0FF0-4019-AF6A-D4AB29DBD9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Zoom en profondeur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662120"/>
            <a:ext cx="9220320" cy="593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C39-9AAC-4A1C-8BA3-F10AEBF5FA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68360" y="4729320"/>
            <a:ext cx="7201080" cy="2867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Tabu List Length </a:t>
            </a:r>
            <a:r>
              <a:rPr b="1" i="1" lang="en-US" sz="4300" spc="-1" strike="noStrike">
                <a:solidFill>
                  <a:srgbClr val="330066"/>
                </a:solidFill>
                <a:latin typeface="Arial"/>
              </a:rPr>
              <a:t>tabulen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4720" y="1895040"/>
            <a:ext cx="907272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60360" indent="-36036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Le rôle de la liste tabou est d'empêcher l'algorithme de patiner sur un plateau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78000"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Après chaque transformation m, on interdit m pendant les 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tabulen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 transformations suivan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78000"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tabulen = 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ça brise un cycle de 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35640" y="6300720"/>
            <a:ext cx="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16720" y="5724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(v)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2000" y="6300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(v)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00720" y="71928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(v)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8B9-DEFE-4827-99EF-03C179AD6FA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Tabu List Length </a:t>
            </a:r>
            <a:r>
              <a:rPr b="1" i="1" lang="en-US" sz="4300" spc="-1" strike="noStrike">
                <a:solidFill>
                  <a:srgbClr val="330066"/>
                </a:solidFill>
                <a:latin typeface="Arial"/>
              </a:rPr>
              <a:t>tabulen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720" y="1895040"/>
            <a:ext cx="907272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60360" indent="-36036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La même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tabulen = 2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n’est PAS soufisante pour briser des cycles plus long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n peut trouver à la fois des plateaux très petits ou très gran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ongue liste tabu pour les grands plateaux et petite liste tabu pour les petits plateaux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600360" y="2916360"/>
            <a:ext cx="2741760" cy="142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CAD-6D16-474C-AD8A-51F300B1BD2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Une idée: longueur adaptative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2920" y="1618920"/>
            <a:ext cx="907236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60360" indent="-36036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oubl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tabulen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après X mouvements à la même valeur de l’objectif (patinage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78000"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On obtient une diversification : à partir d’un moment, on sera obligé de sortir du cyc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19280" y="3780000"/>
            <a:ext cx="7056360" cy="357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E11-248F-446A-87E2-C2D6EF55CB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4720" y="134640"/>
            <a:ext cx="8304480" cy="141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Une réalité encore plus dur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4360" y="1895400"/>
            <a:ext cx="9061560" cy="4851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Si à la place de plateaux, on a des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presque-plateaux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 ?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On adapte le principe 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O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n double la longueur de liste Tabou si la fonction objectif reste plus ou moins constante pour trop longtemp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On double la liste Tabou si des informations de distance nous disent qu’on est dans un état de cyclage (ou patinage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24D-C6B8-494F-94F9-A968652804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2680" y="286920"/>
            <a:ext cx="8310600" cy="86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Un problème de patinag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5640" y="1079640"/>
            <a:ext cx="9575640" cy="345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 le nombre de 1 dans un bit-string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de n bits. La valeur objectif est 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nb                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: nb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 ∈ [0, plat_start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  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lat_start     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: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 nb ∈ [plat_start, plat_end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 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??                 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: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nb 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∈ [plat_end, n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4004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24000" y="3890880"/>
            <a:ext cx="58356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21A-C374-4E26-A848-C28ED3BBF0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134640"/>
            <a:ext cx="8304480" cy="141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L’espace multi-dimensionnel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1160" y="1873080"/>
            <a:ext cx="10078920" cy="46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4BB-A1F7-4E76-BEDE-4E4B523FA7C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360" y="134640"/>
            <a:ext cx="8309160" cy="14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Point faible méta-heuristique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66240" cy="4856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4000"/>
          </a:bodyPr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Selon un livre fondateur en Intelligence Artificielle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[Russell &amp; Norvig.  Artificial Intelligence:  A Modern Approach, 1995]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la recherche locale ressemblerait à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« trying to find the top of Mount Everest in a thick fog while suffering from amnesia »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thick fog = pas de visibilité sur plus d'un seul pa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amnesia = pas de mémoire de long term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720-7E9C-439E-B52F-7041B565B6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Le paysage de recherch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7280" y="1895040"/>
            <a:ext cx="929016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60360" indent="-36036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’ensemble de toutes les solutions candida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voisinag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26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passe d’une solu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26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 à S’ par une opér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26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 type bit-fli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54520" y="3780000"/>
            <a:ext cx="5326200" cy="34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F8E-EC9B-4DE1-B84A-21DC0A2E96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804960"/>
            <a:ext cx="8317080" cy="75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Descente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Pure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557360"/>
            <a:ext cx="9139320" cy="2556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0000"/>
          </a:bodyPr>
          <a:p>
            <a:pPr marL="291600" indent="-29160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n démarre d’une solution aléatoi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chaque étape, on va vers une solution voisin qui minimise l’objectif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n s’arrête dès qu’on peut plus descendre (dans un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minimum local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69080" y="5292720"/>
            <a:ext cx="295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=Global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=Local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6360" y="4284720"/>
            <a:ext cx="577692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F40-DD74-4144-ABDB-51F43A865B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360" y="804960"/>
            <a:ext cx="8317080" cy="75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Descente P</a:t>
            </a:r>
            <a:r>
              <a:rPr b="1" lang="fr-FR" sz="4300" spc="-1" strike="noStrike">
                <a:solidFill>
                  <a:srgbClr val="000000"/>
                </a:solidFill>
                <a:latin typeface="Arial"/>
              </a:rPr>
              <a:t>ur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4360" y="1557360"/>
            <a:ext cx="9139320" cy="254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88000"/>
          </a:bodyPr>
          <a:p>
            <a:pPr marL="297360" indent="0">
              <a:spcBef>
                <a:spcPts val="825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Partir d'une solution candidate aléatoi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7360" indent="0">
              <a:spcBef>
                <a:spcPts val="825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Remplacer à chaque itération la solution courante par la meilleure solution du voisin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7360" indent="0">
              <a:spcBef>
                <a:spcPts val="825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Arrêter lorsqu’il n'est plus possible d’améliorer =&gt;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minimum loc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69080" y="5292720"/>
            <a:ext cx="295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=Minimum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=Minimum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6128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36720" y="4356000"/>
          <a:ext cx="5613480" cy="28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4356000"/>
                    <a:ext cx="561348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472000" y="6659640"/>
            <a:ext cx="216000" cy="216000"/>
          </a:xfrm>
          <a:prstGeom prst="ellipse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16720" y="6443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08360" y="6300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44720" y="5075280"/>
            <a:ext cx="14292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16360" y="5075280"/>
            <a:ext cx="14292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56000" y="6443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96000" y="5435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959280" y="5219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65F-20FB-416A-895A-99857E3949AF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77925E-007 5.58706E-007 C -0.00095 0.00798 -0.00142 0.01596 -1.77925E-007 0.02394 C -0.00047 0.04306 -0.00079 0.06091 -0.00047 0.08002 C -0.00079 0.09662 -0.00142 0.11258 -0.00095 0.12917 C 0.00016 0.12686 -1.77925E-007 0.12812 -1.77925E-007 0.12602 L -0.01937 0.12728 L -0.01748 0.17706 L -0.03071 0.17706 E">
                                      <p:cBhvr>
                                        <p:cTn id="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54448E-006 6.78429E-007 C 0.00079 0.00819 0.00047 0.00294 -2.54448E-006 0.01386 C -0.00016 0.01764 -0.00047 0.0252 -0.00047 0.0252 L 0.01748 0.0252 L 0.01842 0.04348 L 0.03732 0.04348 L 0.03637 0.09011 L 0.05432 0.09074 L 0.05338 0.15123 L 0.09258 0.15123 E">
                                      <p:cBhvr>
                                        <p:cTn id="1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Descente pure: plusieurs ca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4720" y="1895040"/>
            <a:ext cx="907272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25"/>
              </a:spcBef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55640" y="1893960"/>
            <a:ext cx="7705800" cy="4795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48360" y="2843280"/>
            <a:ext cx="14616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16720" y="4427640"/>
            <a:ext cx="14436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64000" y="2340000"/>
            <a:ext cx="14436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3E0-D878-404C-B88F-216AA3E691F7}" type="slidenum">
              <a:t>6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Motion origin="layout" path="M 1.20101E-006 2.35294E-006 L -0.0499 0.17164 E">
                                      <p:cBhvr>
                                        <p:cTn id="17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6 0.00021 C 0.00425 0.00211 0.0074 0.00526 0.0118 0.00715 C 0.01306 0.00841 0.01479 0.00904 0.01574 0.01072 C 0.01668 0.01219 0.01715 0.01618 0.01715 0.01639 C 0.0181 0.01786 0.01857 0.02017 0.01983 0.02143 C 0.02392 0.02584 0.02896 0.02143 0.03179 0.02858 C 0.02943 0.03782 0.02314 0.04433 0.01983 0.05358 C 0.02487 0.05105 0.02676 0.05316 0.03179 0.05526 C 0.03305 0.06072 0.03305 0.06513 0.03715 0.06765 C 0.0384 0.06702 0.04014 0.06471 0.04108 0.06597 C 0.04218 0.06744 0.03715 0.07668 0.03715 0.0769 C 0.03604 0.07795 0.03447 0.07774 0.03305 0.07837 C 0.03179 0.07963 0.03006 0.08026 0.02912 0.08194 C 0.02817 0.08341 0.0277 0.0874 0.0277 0.08761 C 0.03038 0.09244 0.03715 0.1061 0.0384 0.11051 C 0.03888 0.11219 0.03856 0.11513 0.03982 0.11576 C 0.04265 0.11723 0.04596 0.11576 0.04911 0.11576 C 0.04816 0.11408 0.04785 0.10946 0.04643 0.11051 C 0.0436 0.1124 0.04376 0.11891 0.04108 0.12122 C 0.03195 0.129 0.03526 0.12521 0.03038 0.13173 C 0.03179 0.13299 0.0329 0.13467 0.03447 0.1353 C 0.0384 0.13656 0.04265 0.1353 0.04643 0.13719 C 0.04769 0.13782 0.04911 0.1479 0.04911 0.14958 L 0.04643 0.13887 E">
                                      <p:cBhvr>
                                        <p:cTn id="21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9 -0.02374 C -0.03825 -0.04454 -0.02015 -0.05714 -0.00032 -0.05714 C 0.01936 -0.05714 0.03746 -0.04454 0.05005 -0.02374 C 0.03746 -0.00357 0.01936 0.00966 -0.00032 0.00966 C -0.02015 0.00966 -0.03825 -0.00357 -0.0499 -0.02374 Z">
                                      <p:cBhvr>
                                        <p:cTn id="2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40000" y="4356000"/>
            <a:ext cx="6292800" cy="2914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360" y="150480"/>
            <a:ext cx="8317080" cy="1414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Si on admets des mouvement qui dégradent le coût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720" y="1858680"/>
            <a:ext cx="9074160" cy="215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 u="sng">
                <a:solidFill>
                  <a:srgbClr val="000000"/>
                </a:solidFill>
                <a:uFillTx/>
                <a:latin typeface="Arial"/>
              </a:rPr>
              <a:t>Risque : répéter certain mouvements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a recherche Tabou vise à bloquer les répéti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Liste Tabou = les mouvement interdits à l’itération couran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49840" y="3541680"/>
            <a:ext cx="1587240" cy="2619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46F-1B72-4546-BE18-53350671D6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5640" y="149040"/>
            <a:ext cx="8605800" cy="1414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Une évolution classique du coût au cours des itération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03280" y="1692360"/>
            <a:ext cx="8713800" cy="5494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319640" y="6300720"/>
            <a:ext cx="1512720" cy="287280"/>
          </a:xfrm>
          <a:prstGeom prst="rect">
            <a:avLst/>
          </a:prstGeom>
          <a:noFill/>
          <a:ln cap="sq" w="255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92720" y="5796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824360" y="565164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408720" y="1908000"/>
            <a:ext cx="39592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6AE-E206-475D-9C93-76E87FC5B0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2160" y="149400"/>
            <a:ext cx="9005760" cy="855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Zoom </a:t>
            </a: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d’échelle</a:t>
            </a: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moyenn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87280" y="1635120"/>
          <a:ext cx="864072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635120"/>
                    <a:ext cx="864072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896000" y="2050920"/>
            <a:ext cx="1008000" cy="1584360"/>
          </a:xfrm>
          <a:prstGeom prst="rect">
            <a:avLst/>
          </a:prstGeom>
          <a:noFill/>
          <a:ln cap="sq" w="255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111640" y="3851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642-111F-4DF9-8C24-1D0A203F39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5-05-09T20:45:18Z</dcterms:modified>
  <cp:revision>68</cp:revision>
  <dc:subject/>
  <dc:title>Slide 1</dc:title>
</cp:coreProperties>
</file>